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LASER.WAV" ContentType="audio/x-wav"/>
  <Override PartName="/ppt/media/image6.png" ContentType="image/png"/>
  <Override PartName="/ppt/media/image14.jpeg" ContentType="image/jpeg"/>
  <Override PartName="/ppt/media/image8.png" ContentType="image/png"/>
  <Override PartName="/ppt/media/image26.jpeg" ContentType="image/jpeg"/>
  <Override PartName="/ppt/media/image27.jpeg" ContentType="image/jpeg"/>
  <Override PartName="/ppt/media/image28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WHOOSH.WAV" ContentType="audio/x-wav"/>
  <Override PartName="/ppt/media/image1.png" ContentType="image/png"/>
  <Override PartName="/ppt/media/image1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CARBRAKE.WAV" ContentType="audio/x-wav"/>
  <Override PartName="/ppt/media/CAMERA.WAV" ContentType="audio/x-wav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294-2130-475C-9261-29464448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31C-574A-465E-A59E-7FABAB95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9C7-FFE8-41E2-8E4E-05C29F5F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5DF-EA99-4566-BEC6-6206BD16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0D2D-952D-4944-97A4-6229872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94C-AC96-4B7B-8469-88F7C662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75F-2A10-4F54-9721-EA0E141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000-AADF-4CFF-A8C9-593D7DFF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B7B-F8EC-4D24-AAFF-678ECE9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6C2-AD0D-425B-B28A-1AC83454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AB44-9476-4859-A7F4-77CDDB9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18E-40A6-416F-A6FE-38263A20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7877-754E-4072-96F4-FD6D713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D998-3C08-4129-9608-2B0E907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9991-CD42-4261-B0F3-0D134C15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B814-A57F-40BA-AF38-636BF812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8913-4DEA-45AA-9A7E-BA199238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644-BC6A-4F22-B86B-31F09E79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857-486B-4A95-8111-F44676CA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874-E26C-4631-B3D2-732DA879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7E7-845C-418C-8E5D-E6F274C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972-5086-4C54-9263-D6349BD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7E1-DF01-48F8-B679-FFE3A33F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873-F112-49AF-AC4B-5504C76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A259-502B-4689-A488-568D01AF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A49D-AD2C-44E4-868C-1CF9C4A1C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-Linked Tra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asic Differences Between X and 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 chromosome is much SHORTER than the 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it cannot hold as many GENES on it as X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39920" y="4572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orblindnes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10 million American men - fully 7 percent of the male population - either cannot distinguish RED from GREEN, or see red and green differently from mos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most common form of color blindness, but it affects only 4 percent of w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are so many MEN color-blind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blindness is so prevalent in men because it is carried on the X 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only have 1 copy of the 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33920" y="990720"/>
            <a:ext cx="5211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97280" y="0"/>
            <a:ext cx="432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90920" y="990720"/>
            <a:ext cx="4952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324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59200" y="614520"/>
            <a:ext cx="32256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457360" y="728640"/>
            <a:ext cx="422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-Linked Diseases you will understan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Dystr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or vision comes in 3 color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green, and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ly, we are all born colorblin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es don’t begin to function until a baby is about 4 month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95% of all variations in human color vision involve the red and green receptors in men’s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rare for anyone - male or female - to be “blind” to the blue end of the spect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73240" y="1012680"/>
            <a:ext cx="77724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orblind test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are usually tested at 4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rblindness is a RECESSIVE condition passed on the X chromoso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irls whose fathers are colorblind will at least CARRY the gene for colorblin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a girl to actually be red-green colorblind, she must have a mother who is a carrier AND a father who is colorblind. (0.64% of American gir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SHIHARA TES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What numbers do you see revealed in the pattern of dots below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486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828800" y="533520"/>
            <a:ext cx="632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81080" y="45720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541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8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943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6019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romosome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73240" y="45684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58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39920" y="4572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39920" y="4572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MAL VISION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73240" y="677880"/>
            <a:ext cx="77724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73240" y="677880"/>
            <a:ext cx="77724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MAL VISION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79600" y="457200"/>
            <a:ext cx="715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9600" y="457200"/>
            <a:ext cx="715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951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36800" y="0"/>
            <a:ext cx="8107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are the individual units found on each chromosome that determine hereditary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ody cell has ____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gg or sperm has ___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there are ____ PAIRS of chromosomes in normal bod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 Chromosom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______ se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_____ se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ic Chromosome Differenc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Y are called “SEX”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22 pairs of chromosomes are called “BODY” chromosomes or AUT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-linked trait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nly men inherit Y chromosomes, they are the only ones to inherit Y-linked trai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nd women can both get the X-linked ones since they both inherit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omen, a recessive gene on one X chromosome is often covered up in phenotype by a dominant gene on the other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xplains why women are usually carriers of X-linked traits, but rarely ever get them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X-Linked GEN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,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s are x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R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NITAL NIGHT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HENNE MUSCULAR DYSTRO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4:00:24Z</dcterms:created>
  <dc:creator>System Operations</dc:creator>
  <dc:description/>
  <dc:language>en-US</dc:language>
  <cp:lastModifiedBy>me</cp:lastModifiedBy>
  <dcterms:modified xsi:type="dcterms:W3CDTF">2007-04-03T19:32:06Z</dcterms:modified>
  <cp:revision>38</cp:revision>
  <dc:subject/>
  <dc:title>Sex-Linked Traits</dc:title>
</cp:coreProperties>
</file>